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009-9D63-4C75-B54A-2F251E5F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6CF-3287-4EAC-8065-AA7A234C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031-E428-4079-9151-31D4EBF9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F65-B676-4103-BFCB-9F021BC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B4BB-862D-49D5-8627-EF40D67E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CAA2-F154-4455-A5A2-6517554A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783-A46C-41FD-82B5-BFBA583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92C3-DFEB-406D-8970-F078CF04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4101-D4D5-4067-B420-18EF769D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18B7-39A5-4FBD-AD1F-78AB6C4B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D38-8273-4495-A70B-4CA59B8C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CAB-A0AA-4663-8EA5-6A97B3E3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AD88-C275-4183-A3BB-8AC6C6E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A02-186A-4CE6-919D-54DCF931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2848-15CC-47B2-BF65-9E2BD1C8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208A-B7DD-48B3-A83E-2DCF3856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37AD-992D-4659-8A49-740D4A68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D37D-BC79-423A-A217-F1AF0B06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22A-5E4C-4193-AB02-B3BFA22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679-E9E2-41EB-8734-F6B4999C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C1F-FF23-44AE-A9D5-E9FE084F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D3B-D4BB-4E03-8750-6EF06C6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98E-B9F5-4158-971C-4111AA7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74F-B820-4A67-9F18-BB4D6E59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0122-0992-41EB-BF8A-0B65B6289118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7AC6-E75F-4B53-B84C-76BDA16E6E2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b7"/>
                </a:solidFill>
                <a:latin typeface="Arial Black"/>
              </a:rPr>
              <a:t>ESOPHAGU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esophagus passes through the diaphragm, it is surrounded by fibers of it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 that forms physiological or functional sphincter of the lower esophageal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Blood supply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3210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- Arterial supp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ervical p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thyroid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oracic p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ending thoracic aor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gs from bronchial art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dominal p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gastr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upplying arteries are interconnected by longitudinal anastomotic chann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99080" y="907920"/>
            <a:ext cx="444492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3210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- Venous drain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ervic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ior thyroid ve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oracic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gos, hemiazygos and accessory hemiazygos ve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domin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gastric v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40212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B. the lower end of esophagus is an important site of portosystemic anastomo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Nerve supply</a:t>
            </a: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3889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pathe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etic tru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asympathe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444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157720"/>
            <a:ext cx="8385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Prof. Dr. Shawky Taye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8560" y="3105000"/>
            <a:ext cx="2666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ESOPHAG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muscular tube about 10 inches (25 cm) l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xtends from the lower end of the pharynx to the cardiac end of the stoma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lies mainly in the thorax, the uppermost part lies in the neck while the lowermost part lies in the abdo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8080" y="13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esophagus_asco_small.jpg (9284 bytes)"/>
          <p:cNvPicPr/>
          <p:nvPr/>
        </p:nvPicPr>
        <p:blipFill>
          <a:blip r:embed="rId1"/>
          <a:stretch/>
        </p:blipFill>
        <p:spPr>
          <a:xfrm>
            <a:off x="2666880" y="687240"/>
            <a:ext cx="46101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Course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ervic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egins in the neck opposite the level of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rvical vertebra as a continuation of the 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Thoracic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scends in the thorax through the superior and posterior mediast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Abdomin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enters the abdomen by passing through the esophageal opening of the diaphragm (level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vertebr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joins the stomach at the cardiac ori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982800"/>
            <a:ext cx="6400800" cy="360"/>
          </a:xfrm>
          <a:prstGeom prst="rect">
            <a:avLst/>
          </a:prstGeom>
          <a:solidFill>
            <a:srgbClr val="9b9b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1600" y="982800"/>
            <a:ext cx="6400440" cy="4740120"/>
            <a:chOff x="1371600" y="982800"/>
            <a:chExt cx="6400440" cy="4740120"/>
          </a:xfrm>
        </p:grpSpPr>
        <p:sp>
          <p:nvSpPr>
            <p:cNvPr id="108" name=""/>
            <p:cNvSpPr/>
            <p:nvPr/>
          </p:nvSpPr>
          <p:spPr>
            <a:xfrm>
              <a:off x="1445760" y="1040040"/>
              <a:ext cx="6252120" cy="4626000"/>
            </a:xfrm>
            <a:prstGeom prst="rect">
              <a:avLst/>
            </a:prstGeom>
            <a:solidFill>
              <a:srgbClr val="9b9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305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982800"/>
              <a:ext cx="6400440" cy="4740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0" name="" descr="Esophagus"/>
          <p:cNvPicPr/>
          <p:nvPr/>
        </p:nvPicPr>
        <p:blipFill>
          <a:blip r:embed="rId2"/>
          <a:stretch/>
        </p:blipFill>
        <p:spPr>
          <a:xfrm>
            <a:off x="1143000" y="409680"/>
            <a:ext cx="626436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Relations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- In the ne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teriorly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achea, two recurrent laryngeal nerves (Rt. &amp; Lt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osterio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vertebral column, prevertebral muscles and fas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105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- In the thor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- In the superior mediastin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rachea, left recurrent larynge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teriorly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tebral column, anterior longitudinal ligament and prevertebral mus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right side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zygos vein, right lung and ple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left s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oracic duct, arch of aorta, left lung and ple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esophagus_small.jpg (9807 bytes)"/>
          <p:cNvPicPr/>
          <p:nvPr/>
        </p:nvPicPr>
        <p:blipFill>
          <a:blip r:embed="rId1"/>
          <a:stretch/>
        </p:blipFill>
        <p:spPr>
          <a:xfrm>
            <a:off x="5076720" y="304920"/>
            <a:ext cx="3888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- In the posterior mediastin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sophagus is closely surrounded by esophageal plexus of nerve formed by both vag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ites of constrictions of esophagus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3210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beginning (level of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rvical vertebr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crossing by aortic 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crossing by left main bronch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t passes through its opening in the diaphrag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39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0:18:44Z</dcterms:created>
  <dc:creator>مهندس / ماجد صفوت يوسف</dc:creator>
  <dc:description/>
  <dc:language>en-US</dc:language>
  <cp:lastModifiedBy>Prof. Dr. Shawky</cp:lastModifiedBy>
  <dcterms:modified xsi:type="dcterms:W3CDTF">2014-04-05T11:46:47Z</dcterms:modified>
  <cp:revision>35</cp:revision>
  <dc:subject/>
  <dc:title>ESOPHAGUS</dc:title>
</cp:coreProperties>
</file>